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1E0D-F4C0-46D2-91C7-E658C6C55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EC30-29D8-40CB-B36C-234FF13AD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F06A-1118-4E71-B272-83B71F08D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6128-339A-46C1-8BB1-0A5F544B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F7AD-C05B-4ED0-A9C3-621C54C4A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0748-3F38-4C6E-9B5D-7D0272C85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CD9E-0A31-435E-9580-B8323467F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6DFD-58D9-48A5-96C9-98320B506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08D5-BF53-4A71-BDBE-5F81780B8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89AC-FA9E-45C2-8C9C-6D24D00A1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4F73-FBA0-4DA2-A664-2ACF601BF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6FD-CCA4-40EE-9273-FF0450645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green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457680"/>
            <a:ext cx="38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5BA-EEF3-4DFD-B029-DBE33290CF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6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Picture 7" descr="frameroundedcorner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inkexist.com/quotes/chinese_proverbs/" TargetMode="External"/><Relationship Id="rId2" Type="http://schemas.openxmlformats.org/officeDocument/2006/relationships/hyperlink" Target="http://thinkexist.com/quotes/chinese_proverbs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9900"/>
                </a:solidFill>
                <a:latin typeface="Times New Roman"/>
              </a:rPr>
              <a:t>2. наставна јединица (друг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Вештина вербалне и писане комуник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346360" y="5997600"/>
            <a:ext cx="33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. др Мирјана Јованови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за емпатичко слушање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 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Посетили сте свог док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 доктор не дели ваша осећ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 не одбације нити се руга вашим осећањима,напротив,он их препознаје и третира ваше повреде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вде,нема “дељења” емоција,већ препознавања емоциј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ефикасну</a:t>
            </a:r>
            <a:r>
              <a:rPr b="1" lang="en-US" sz="3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ербалну комуникацију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да развијемо своју способност емпатичког  слу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 то радим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Пре свега,потребно  је да препознамо параметре који чине емпатичко слушање,када оцењујемо нечије вербал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раметри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Број речи у мину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ако је “слушљив” &amp; и без дисторз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начин исказивања ми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разумевање појмова који се кори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коришћење различитих пауза у гов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способност  лаког изража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трансформација идеја у реч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значање или суштина гов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ежбе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Вежба у читању коју евалуира група студен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оци ће евалуирати онога ко чита- по задатим парамет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 параметри могу се оценити највише оценом 10  изузев “садржаја” који може имати највише оцену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тни резултат ( feedback) представља збир свих поена-тотални збир је 100 (макс. ск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Говор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Говорити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говорити добро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су две различите ства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 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Будала може да прича,али мудар човек говори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Ben Johns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Боље је држати језик за зубима,и можда,бити сматран будалом,него отворити уста и разрешити недоумицу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Abraham Lincol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Речи које изаберете да би сте нешто рекли,важне су колико и одлука да говорит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непознати ау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Говор се састоји из два дела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Шта рећи?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Како нешто рећи.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2govornica.jpg"/>
          <p:cNvPicPr/>
          <p:nvPr/>
        </p:nvPicPr>
        <p:blipFill>
          <a:blip r:embed="rId1"/>
          <a:stretch/>
        </p:blipFill>
        <p:spPr>
          <a:xfrm>
            <a:off x="3124080" y="4191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1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Шта рећи?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ој садржаја 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корак је “Brainstorming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ећи корак је изабрати формат презентације/складиштење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нални корак је сама през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komunik crtež.bmp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Verdana"/>
              </a:rPr>
              <a:t>Браин Сторминг…</a:t>
            </a:r>
            <a:endParaRPr b="0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Индивидуални  Brainstorm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ставља енглески израз који означава процес настанка идеја и стављања идеја на папи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уштина је ставити на папир што више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има две предност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Омогућава нецензурисани проток различитих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Подстиче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тратешку или компаративну евалуацију  идеј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.Када су на папиру,имате могућност рангирања својих идеја по важности и ефик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ожете компарирати своје идеје,супротставити их и на крају одабрати најбољ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тавити идеје заједно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а када знамо о чему желимо да причамо,потребно је да запишемо идеје у облику који може да буде презентован друг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требан нам је одговарајућ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з чију помоћ можемо представити иде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о можемо назвати презентацијом или складиштењем иде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Шта је потребно?</a:t>
            </a: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авимо следеће питање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Да ли заборављамо због нервозе или постајемо нервозни због заборављања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а продискутујемо 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Шта ако треба да изговорите азбуку пред аудиторијумом?”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ли постајете нервозн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игледно н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162560" cy="16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Вештина вербалне и писане комуникације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сто мислимо да имати добру комуникацију значи бити добар говорн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Зашто постајемо нервозни?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рвоза не изазива толико пуно заборавн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о што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борављање изазива нерв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Један човек је закључио да је главни узрок Нерво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право “заборављање” или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Страх од заборављања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угим речима, нећемо постати нервозни ако поуздано знамо да не можемо заборавит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превенцију заборављања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 подат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повратни 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акође,олакшава слушаоцима разумевање идеја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1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З…Увод,тело,закључак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у тему или оно што желиш да каже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Тело-неколико идеја које подржавају  суштину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Закључак-крај са одговарајућим закљу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4" descr="vodič.jpg"/>
          <p:cNvPicPr/>
          <p:nvPr/>
        </p:nvPicPr>
        <p:blipFill>
          <a:blip r:embed="rId1"/>
          <a:stretch/>
        </p:blipFill>
        <p:spPr>
          <a:xfrm>
            <a:off x="5362560" y="1676520"/>
            <a:ext cx="256212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2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ременски оквир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ошни са Референцом /Податком и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шл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ференцом /Подат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адашњ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јекту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дућ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а личним печа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 3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Д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Ш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Почети са Крајем/Закључком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Ка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Чиме подржавамо Закључак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Доказ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Коришћењем примера/студије случаја/стати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Закључак 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Надам се да сам успео да докажем ДА…..(користи закључак с почетка говор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кладиште  4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+ми , -ми, лични печ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ми (предности/јаче стра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ми (мане/слаб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ај свој Лични печат заснован на евалуацији за и проти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Идем даље ка…. 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“Како треба говорити?”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Говори јасно,ако уопште говориш; урежи сваку реч пре него је пустиш да падне 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Oliver Wendell Hol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4" descr="dete sa rukom.jpg"/>
          <p:cNvPicPr/>
          <p:nvPr/>
        </p:nvPicPr>
        <p:blipFill>
          <a:blip r:embed="rId1"/>
          <a:stretch/>
        </p:blipFill>
        <p:spPr>
          <a:xfrm>
            <a:off x="4995720" y="2862360"/>
            <a:ext cx="3157560" cy="23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Како треба говорити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0800" y="1371240"/>
            <a:ext cx="331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8000" indent="-19800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Водич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с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6" descr="veština kom..bmp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Брзин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број речи изговоре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 мин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.док већина Индијаца изговори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до 180 рп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е стране колеге изгово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 до 120 рп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оравање изговора (мањи број речи у јединици врема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први је корак ка бољем говорниш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Јасноћ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слушљив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без дистор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 би требао да буде довољно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 би допро до сваког слушаоца.Проценити акустику просториј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асноћа гласа може да се побољша и усаврши редовним вежб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ofis tok.jpg"/>
          <p:cNvPicPr/>
          <p:nvPr/>
        </p:nvPicPr>
        <p:blipFill>
          <a:blip r:embed="rId1"/>
          <a:stretch/>
        </p:blipFill>
        <p:spPr>
          <a:xfrm>
            <a:off x="3219480" y="4267080"/>
            <a:ext cx="270504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Ми смо у праву…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и само  50% у прав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 ш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ална комуникација има још јед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 веома важан де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УШАЊ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ворити” + “Слушати” = “Вербална комуникација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Изговор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к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ома је важан правилан изговор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ти  добар речник или радити са тренером на изговору речи и акц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govor.jpg"/>
          <p:cNvPicPr/>
          <p:nvPr/>
        </p:nvPicPr>
        <p:blipFill>
          <a:blip r:embed="rId1"/>
          <a:stretch/>
        </p:blipFill>
        <p:spPr>
          <a:xfrm>
            <a:off x="1752480" y="3581280"/>
            <a:ext cx="402912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узе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е…користи различите врсте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а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две т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узвич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нака пи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Content Placeholder 9" descr="komunik ofis.jpg"/>
          <p:cNvPicPr/>
          <p:nvPr/>
        </p:nvPicPr>
        <p:blipFill>
          <a:blip r:embed="rId1"/>
          <a:stretch/>
        </p:blipFill>
        <p:spPr>
          <a:xfrm>
            <a:off x="4876920" y="2209680"/>
            <a:ext cx="302256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амилијар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јарност...познавање значења речи које корист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ње нових ре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познатих речи у новом контексту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умети контекст и ситуацију пре поновног чита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jinjang.jpg"/>
          <p:cNvPicPr/>
          <p:nvPr/>
        </p:nvPicPr>
        <p:blipFill>
          <a:blip r:embed="rId1"/>
          <a:stretch/>
        </p:blipFill>
        <p:spPr>
          <a:xfrm>
            <a:off x="3124080" y="4267080"/>
            <a:ext cx="35053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луент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…Способност  лаког израж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ој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питање других параметара на свом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указује да је говорник успешно савладао способност јасног и исправног изражавања,укључујући и друге параме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кспресија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…трансформација идеје у ре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спољашња манифестација расположења или распореда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личитих емоција изражених речима,тоном,убедљивошћу,висином тона и моду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mladi.jpg"/>
          <p:cNvPicPr/>
          <p:nvPr/>
        </p:nvPicPr>
        <p:blipFill>
          <a:blip r:embed="rId1"/>
          <a:stretch/>
        </p:blipFill>
        <p:spPr>
          <a:xfrm>
            <a:off x="3352680" y="3962520"/>
            <a:ext cx="26193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v.komunikacija1.bmp"/>
          <p:cNvPicPr/>
          <p:nvPr/>
        </p:nvPicPr>
        <p:blipFill>
          <a:blip r:embed="rId1"/>
          <a:stretch/>
        </p:blipFill>
        <p:spPr>
          <a:xfrm>
            <a:off x="3048120" y="1219320"/>
            <a:ext cx="289548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СЛУШАЊЕ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ећина успешних људи које познајем су они који више слушају него причају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. (Bernard M.Baru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Слушати добро,моћан је извор утицаја на друге,као и говорити добро,и есенцијално је за сваку истинску комуникацију (Кинеска пословиц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”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Ми имамо два ува и једна уста ,тако да можемо двоструко више да слушамо,него да причамо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рсте слушања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9360" y="1752120"/>
            <a:ext cx="77821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неколико врста СЛУШАЊ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1.Слушање са захвалношћу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2.Емпа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3.Обимно слушањ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4.Кри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5.Симпате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У најширем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ЛУШАЊЕ МОЖЕ БИТИ КЛАСИФИКОВАНО КА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импате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па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megafon.jpg"/>
          <p:cNvPicPr/>
          <p:nvPr/>
        </p:nvPicPr>
        <p:blipFill>
          <a:blip r:embed="rId1"/>
          <a:stretch/>
        </p:blipFill>
        <p:spPr>
          <a:xfrm>
            <a:off x="5486400" y="2590920"/>
            <a:ext cx="3076560" cy="22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мпатетичко слушањ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импатетичком слушању стало нам је до друге особе,при чему показујемо своје интересовање на тај начин што обраћамо пуну пажњу и изражавамо своју тугу када је саговорник тужан или срећу,уколико се саговорник рад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м речима-ради се 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дељењу”-”(sharing)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мо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evojke.jpg"/>
          <p:cNvPicPr/>
          <p:nvPr/>
        </p:nvPicPr>
        <p:blipFill>
          <a:blip r:embed="rId1"/>
          <a:stretch/>
        </p:blipFill>
        <p:spPr>
          <a:xfrm>
            <a:off x="3124080" y="44956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симпатетичког слушања</a:t>
            </a: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Кад сте ушли у кућу,ваши укућани 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саосећали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в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су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поделили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аше осећање повређености па чак и “засузили оком”  ,да би показали своју саосећај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ete komunikacija.jpg"/>
          <p:cNvPicPr/>
          <p:nvPr/>
        </p:nvPicPr>
        <p:blipFill>
          <a:blip r:embed="rId1"/>
          <a:stretch/>
        </p:blipFill>
        <p:spPr>
          <a:xfrm>
            <a:off x="3581280" y="3962520"/>
            <a:ext cx="178128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мпатичко слушање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да слушамо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емпатич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идемо иза симпатије, за дубљим разумевањем како се неко други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захтева изврсно разликовање  нијанси и  блиску пажњу када су у питању и назнаке емоционалних сигнала.Када смо заиста емпатични,ми у ствари препознајемо и потврђујемо шта та особа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 намери да натерамо друге да изразе дубље делове себе пред нама,такође,треба да демонстрирамо емпатију  и то, сопственим понашањем  и пажљивим слушањ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ажно је да наше понашање буде такво да охрабри особу да се отвори и изрази своје емо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nja</dc:creator>
  <dc:description/>
  <dc:language>en-US</dc:language>
  <cp:lastModifiedBy>Milanče Sin</cp:lastModifiedBy>
  <dcterms:modified xsi:type="dcterms:W3CDTF">2023-02-04T20:01:33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